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ADC-638C-4B14-800C-EB805EC4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9AB-9AFD-409D-833E-6115F879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D855-2B51-4CFB-A935-BEBE1F6D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064-D134-4E44-8C5B-66435777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B99E-DAEE-452E-8C19-30A1D9D9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D4AB-48A6-4425-A43E-17C35981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3416-215C-4635-ACED-4B1D62E9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42DD-16ED-4D80-A0B0-EB772853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D254-3BBD-4174-8E2B-9B6F3A53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6DBC-59CC-4441-B4C7-8FDB805C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F820-507C-47BB-854B-A7AFF55C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9B6E-188E-441B-ADBC-4D91980B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58C2-75EF-4DEE-9945-2737B5D1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4229-0725-4D83-8180-5ADE2B02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69F4-3552-41A0-955E-A263CE2F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0ACE-BE32-4771-879E-1F9F831B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FD41-C156-4127-935A-598153C8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31D-B9EE-4A23-A9CD-DF5BE2AB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280F-1D2E-4C49-9C73-33F84D87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90DB-BE28-4C90-AEA4-26157C09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DC2-3361-46DA-8285-E7675A13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37C-40CF-43F7-A616-32880D41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3A0E-2789-4B0A-BD1D-B85359D0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512-9189-4C71-BE73-EACC97D5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0CB8-4E4D-4F05-A6E1-F53244E9306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B8F6-3B6C-4F34-805B-367D8F18031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INEVALINTOJEN PERUSTEITA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it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kiinnostava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jatkoa ajatel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juu mukavas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ALAUTU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alauta kortti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ryhmänohjaajallesi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IMEISTÄÄN 15.3.2007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LINTOJEN TEKO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aikutusta: valintojen pohjal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ukuvuoden kurssitarjotin j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ukujärjestyspaikat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TKO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Jaksojärjestyksen tarkistus (päällekkäisyydet??) – mahdollisuus tehdä muutoksia valintoihin rehtorin lista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Oma henk.koht. lukujärjestys annetaan joka jaksoon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AINEVALINTOJEN PERUSTEITA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elessäsi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lähitavoit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ylioppilaskirjoitukset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elellään kaikki kurssit ko. ainees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.vsk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 suunnitelmat yo-kirjoitusajoista vaikuttamaan he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AINEVALINTOJEN PERUSTEITA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Mielessäsi </a:t>
            </a:r>
            <a:r>
              <a:rPr b="0" lang="fi-FI" sz="4000" spc="-1" strike="noStrike" u="sng">
                <a:solidFill>
                  <a:srgbClr val="ffffff"/>
                </a:solidFill>
                <a:uFillTx/>
                <a:latin typeface="Tahoma"/>
              </a:rPr>
              <a:t>tulevaisuustavoite</a:t>
            </a: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  suunnitellut opiskelu-ur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- mitä oppiaineita ehdottomasti tarvitaa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-mistä hyötyä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- (valintaoppaat, netti  kts. lukion oposivujen linkit)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AINEVALINTOJEN PERUSTEITA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OM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uista, että kannattaa pitää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eita vaihtoehtoja jatko-opintojen suhteen avoinna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AINEVALINTAKORTTI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Koko lukioajan yksi oma kortti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(opon tallessa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Tahoma"/>
              </a:rPr>
              <a:t>Valinnat korttiin huomioidaan lukuvuosi kerrallaa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AINEVALINTAKORTTI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rtin kurssinumerot tarkoittava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kollis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kurssit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aaleall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hjal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altakunnallis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yventävät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evyesti tummennetull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ohjal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Koulukohtais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yventävät ja soveltavat kurssit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ahvasti tummennetull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ohjal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uolikkaa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kurssit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atkoviivall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kehystet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AINEVALINTAKORTTI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oikkeamat numerojärjestyksestä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rssien tärkeyden merkki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LINTOJEN TEKO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äytä/tarkista alkutiedot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ain seuraavan lukuvuoden valinnat rehtoril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LINTOJEN TEKO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 Rengasta lyijykynällä - hieman enemmän kuin alin määrä, kos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muutoshaluissa vaikea ”parsi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ina ei kurssi toteu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päällekkäisyyd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 Voi ottaa sopivia muilta vuosil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 Lopuksi tarkista kurssimäärä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ja edellisvuoden kurssitul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7:31:32Z</dcterms:created>
  <dc:creator>ope</dc:creator>
  <dc:description/>
  <dc:language>en-US</dc:language>
  <cp:lastModifiedBy>ope</cp:lastModifiedBy>
  <dcterms:modified xsi:type="dcterms:W3CDTF">2007-02-20T14:49:12Z</dcterms:modified>
  <cp:revision>13</cp:revision>
  <dc:subject/>
  <dc:title>AINEVALINTOJEN PERUSTEITA:</dc:title>
</cp:coreProperties>
</file>